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9B7D-79E5-4328-B8DF-1CE5E8F9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356F-0226-48E2-888F-B947A6C7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EA6-2F5E-4FFA-8CF8-B4921DCB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7B13-D32B-4DE1-BD0D-BF37757B0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F9CA-D48F-4F09-ADC9-D0A2057A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87FD-4910-4A19-8081-29DED4741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9D5-37DA-412C-8CA1-A2780A61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F7AE-7CD0-4473-95DC-0DC6A1C0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2903-8A80-4EF0-93FC-05BE2BA5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6376-A8FC-4B85-A4DE-569508E9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B7A1-840E-4600-8F99-E0165E22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D6B-42AB-4BE3-AA3B-DFA20619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13C7-B197-4C7F-81CB-669D588C9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9T13:21:54Z</dcterms:created>
  <dc:creator>mnovotna</dc:creator>
  <dc:description/>
  <dc:language>en-US</dc:language>
  <cp:lastModifiedBy>mnovotna</cp:lastModifiedBy>
  <dcterms:modified xsi:type="dcterms:W3CDTF">2006-05-29T13:29:23Z</dcterms:modified>
  <cp:revision>2</cp:revision>
  <dc:subject/>
  <dc:title>Snímek 1</dc:title>
</cp:coreProperties>
</file>