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C6E-18C2-46D9-B2AD-684A0942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383-0F89-4D49-A2C7-A859DA48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9BC-3F0C-499C-B03B-ECC1D034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597-34D6-425E-A935-020B90E4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D46-C0D4-4C06-8964-CA44492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BE2-27CF-48DB-81B7-406648D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97E-C552-4188-95F6-8F10412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D0C-7753-491F-80E8-7624501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46D-CD22-4E37-A745-4E3026E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A6F-C37C-4BFA-BB60-39B07EA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F01-C7FC-4773-8BA5-38E5592B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CDD-9548-491A-9A50-C1D9602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6416-EC8B-4DFC-A3AA-A6452C08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3:21:54Z</dcterms:created>
  <dc:creator>mnovotna</dc:creator>
  <dc:description/>
  <dc:language>en-US</dc:language>
  <cp:lastModifiedBy>mnovotna</cp:lastModifiedBy>
  <dcterms:modified xsi:type="dcterms:W3CDTF">2006-05-29T13:29:23Z</dcterms:modified>
  <cp:revision>2</cp:revision>
  <dc:subject/>
  <dc:title>Snímek 1</dc:title>
</cp:coreProperties>
</file>