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2E0C-5D14-4B3D-9421-282FA728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5FD5-B830-423E-9482-2D7CFFA7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F62-2FB9-458E-83F9-82838A1C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C667-9210-4BED-AC27-42A7C7C1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0E01-8172-4244-B075-1E801B9E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2341-29AB-4174-9D8B-7330ED71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98A2-8960-4CAC-8436-A109F45F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D184-26E1-4DB9-8796-E7750625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853-DD8E-4D38-A1C6-D199D6A6F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DAE-0A99-4D59-B461-1B1318FD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0EF6-F15D-49FE-81E6-D9F789C7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7EDC-34DC-4EF4-8993-B41661A4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6918-AA72-47D4-B3CA-7184EC7D6BE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Jaká to krásná modrá planeta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114800" cy="4114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14800" cy="41148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Is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Černé moř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The Red S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5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Dokonce ponořená do temnoty je naše planeta stále krásná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Jih Iberského poloostrova</a:t>
            </a: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. </a:t>
            </a:r>
            <a:br>
              <a:rPr sz="4400"/>
            </a:b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Písečná bouře opouští severní Afriku a Kanárské ostrov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Arial"/>
              </a:rPr>
              <a:t>Není to úžasn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Aby i naši potomci měli tu možnost vidět to co my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Pošli tuto zprávu tolikrát, kolik jen budeš moct, aby každý z nás měl tu možnost vidět, po čem kráč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Gibraltar na dohl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Noc přechází nad Evropou a severní Afrikou</a:t>
            </a: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88000" y="6381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</a:rPr>
              <a:t>Švýcarské Al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19:07:12Z</dcterms:created>
  <dc:creator>Izzo</dc:creator>
  <dc:description/>
  <dc:language>en-US</dc:language>
  <cp:lastModifiedBy>ucebna</cp:lastModifiedBy>
  <dcterms:modified xsi:type="dcterms:W3CDTF">2006-03-16T11:47:57Z</dcterms:modified>
  <cp:revision>42</cp:revision>
  <dc:subject/>
  <dc:title>FOTOS DEL PLANETA TIERRA</dc:title>
</cp:coreProperties>
</file>