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DF5-803A-4F33-86D9-96A107CD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EB4-86ED-4972-9006-2D29BD72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D7D-0727-425D-943C-AEA23BC4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2EA-3B74-4563-9498-0CBB5A13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773-7DC7-458F-8AC7-DC62AC86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BEE-BDCA-4852-B028-369C9350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2D9-9738-4B36-A1A6-D7F96CCA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EFC-150E-4585-9D73-B8100E75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89E-F37A-4730-A926-0B6214D6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4D6-014E-48C4-9BB7-E05B11E9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436-2111-4D1C-B3D5-DADDA225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912-BE11-48D2-9247-CD343CF1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CE45-FCEC-4D46-ABB5-D20F3938A9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Jaká to krásná modrá planet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s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Černé moř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he Red 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5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okonce ponořená do temnoty je naše planeta stále krásná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Jih Iberského poloostrova</a:t>
            </a: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ísečná bouře opouští severní Afriku a Kanárské ostrov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Není to úžasn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Aby i naši potomci měli tu možnost vidět to co my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šli tuto zprávu tolikrát, kolik jen budeš moct, aby každý z nás měl tu možnost vidět, po čem kráč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Gibraltar na doh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oc přechází nad Evropou a severní Afrikou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88000" y="6381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Švýcarské Al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19:07:12Z</dcterms:created>
  <dc:creator>Izzo</dc:creator>
  <dc:description/>
  <dc:language>en-US</dc:language>
  <cp:lastModifiedBy>ucebna</cp:lastModifiedBy>
  <dcterms:modified xsi:type="dcterms:W3CDTF">2006-03-16T11:47:57Z</dcterms:modified>
  <cp:revision>42</cp:revision>
  <dc:subject/>
  <dc:title>FOTOS DEL PLANETA TIERRA</dc:title>
</cp:coreProperties>
</file>